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08F2-ECB3-4686-B1CE-97966D29C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C70A-5782-4A0D-B746-04135FF2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45A2-9AE7-4375-B555-EBE3A90B6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323B-0D06-4292-9AC5-FE567D461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8F36-5C7F-4657-9BEF-9F791548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991C-1CC2-4197-A57C-47D16E7F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2072-23FA-4AB0-A4C4-DEC9BF7A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347A-ED96-4E9D-A6C2-A84A24E0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65C7-AEAC-4041-B550-420D7A61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0BD9-22AC-4F51-A135-4874FDD9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08A5-0E00-4785-AD44-17803922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5FC7-83E2-4174-A0D7-7DDB0B09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5E8A-C847-4D11-91E1-102A4C86F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accounting cycle for Electronic Arts Inc. different from other compan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st step in the accounting cycle is the preparation of the financial stat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all closing entries have been journalized and posted, the account balances for all temporary accounts will be z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nual accounting period adopted by a business is known as its fiscal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worksheet is used at the end of the accounting period to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95480"/>
            <a:ext cx="41148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urnalize adjusting e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financial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urnalize closing e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se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61920"/>
            <a:ext cx="8229600" cy="155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m of the balance sheet that expands the assets and liabilities sections to include current assets, property, plant and equipment, current liabilities, and long-term liabilities is called a(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025720"/>
            <a:ext cx="4114800" cy="37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classified balance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ed balance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ar-end balance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balance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counts and amounts on the post-closing trial balance should agree exactly with the accounts and amounts listed on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TPChart" descr=""/>
          <p:cNvPicPr/>
          <p:nvPr/>
        </p:nvPicPr>
        <p:blipFill>
          <a:blip r:embed="rId1"/>
          <a:stretch/>
        </p:blipFill>
        <p:spPr>
          <a:xfrm>
            <a:off x="4508640" y="1917720"/>
            <a:ext cx="4483080" cy="48718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11480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ained earnings stat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e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ance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ed trial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9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e statement accounts that are not carried forward from year to year are c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1148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orary ac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ac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minal ac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ing ac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the correct sequencing for closing the temporary accou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1148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ense accounts, revenue accounts, Income Summary account, Dividends accou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venue accounts, expense accounts, Income Summary account, Dividends accou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venue accounts, expense accounts, Dividends account, Income Summary accou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ividends account, revenue accounts, expense accounts, Income Summary accou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come summary account is only used during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026800"/>
            <a:ext cx="41148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rent asse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PChart" descr=""/>
          <p:cNvPicPr/>
          <p:nvPr/>
        </p:nvPicPr>
        <p:blipFill>
          <a:blip r:embed="rId1"/>
          <a:stretch/>
        </p:blipFill>
        <p:spPr>
          <a:xfrm>
            <a:off x="4876920" y="1828800"/>
            <a:ext cx="4132080" cy="46483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053720"/>
            <a:ext cx="41148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property, plant, an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reported directly below property, plant, an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expected to be converted to cash or sold or used up usually within one year or l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reported on the income statement with exp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Electronic Arts Inc. follow generally accepted accounting principles throughout its cycle of business activ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journal entry to close revenue accounts incl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biting the revenue accounts and crediting the Income Summary acc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biting the Income Summary account and crediting the revenue accou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biting the revenue accounts and crediting the Retained Earnings acc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biting the revenue accounts and crediting the Dividends acc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journal entry to close expense accounts incl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biting the expense accounts and crediting the Income Summary acc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biting the Income Summary account and crediting the expense accou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biting the expense accounts and crediting the Retained Earnings acc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biting the expense accounts and crediting the Dividends acc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12760"/>
            <a:ext cx="82296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accounts is not closed to the Income Summary accou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1148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revenue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t expense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nds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ges expense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457200" y="739800"/>
            <a:ext cx="8305920" cy="191772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lances for the accounts listed below appear in the Adjusted Trial Balance columns of the end-of-period spreadsheet (work sheet). Indicate whether each balance should be extended to (a) an Income Statement column or (b) a Balance Sheet colum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80880" y="4049640"/>
          <a:ext cx="8382240" cy="2200320"/>
        </p:xfrm>
        <a:graphic>
          <a:graphicData uri="http://schemas.openxmlformats.org/drawingml/2006/table">
            <a:tbl>
              <a:tblPr/>
              <a:tblGrid>
                <a:gridCol w="83822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) Income statement column &amp; (3) Balance sheet colum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) Income statement column &amp; (3) Income statement colum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) Balance sheet column &amp; (3) Balance sheet colum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) Balance sheet column &amp; (3) Income statement colum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  <p:sp>
        <p:nvSpPr>
          <p:cNvPr id="110" name="Text Box 16"/>
          <p:cNvSpPr/>
          <p:nvPr/>
        </p:nvSpPr>
        <p:spPr>
          <a:xfrm>
            <a:off x="8985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457200" y="2978280"/>
            <a:ext cx="8305920" cy="8254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203640"/>
                <a:tab algn="l" pos="3549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3203640"/>
                <a:tab algn="l" pos="3549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mulated Depreci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8"/>
          <p:cNvGrpSpPr/>
          <p:nvPr/>
        </p:nvGrpSpPr>
        <p:grpSpPr>
          <a:xfrm>
            <a:off x="0" y="0"/>
            <a:ext cx="5361120" cy="459720"/>
            <a:chOff x="0" y="0"/>
            <a:chExt cx="5361120" cy="459720"/>
          </a:xfrm>
        </p:grpSpPr>
        <p:sp>
          <p:nvSpPr>
            <p:cNvPr id="113" name="Rectangle 19"/>
            <p:cNvSpPr/>
            <p:nvPr/>
          </p:nvSpPr>
          <p:spPr>
            <a:xfrm>
              <a:off x="0" y="0"/>
              <a:ext cx="518148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0"/>
            <p:cNvSpPr/>
            <p:nvPr/>
          </p:nvSpPr>
          <p:spPr>
            <a:xfrm>
              <a:off x="5105520" y="0"/>
              <a:ext cx="255600" cy="45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21"/>
            <p:cNvSpPr/>
            <p:nvPr/>
          </p:nvSpPr>
          <p:spPr>
            <a:xfrm>
              <a:off x="549360" y="0"/>
              <a:ext cx="43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4-1 (1&amp;3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solidFill>
            <a:srgbClr val="e8dc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TPChart" descr=""/>
          <p:cNvPicPr/>
          <p:nvPr/>
        </p:nvPicPr>
        <p:blipFill>
          <a:blip r:embed="rId1"/>
          <a:stretch/>
        </p:blipFill>
        <p:spPr>
          <a:xfrm>
            <a:off x="5105520" y="2057400"/>
            <a:ext cx="4038480" cy="480060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5"/>
          <p:cNvGrpSpPr/>
          <p:nvPr/>
        </p:nvGrpSpPr>
        <p:grpSpPr>
          <a:xfrm>
            <a:off x="0" y="0"/>
            <a:ext cx="5361120" cy="459720"/>
            <a:chOff x="0" y="0"/>
            <a:chExt cx="5361120" cy="459720"/>
          </a:xfrm>
        </p:grpSpPr>
        <p:sp>
          <p:nvSpPr>
            <p:cNvPr id="119" name="Rectangle 6"/>
            <p:cNvSpPr/>
            <p:nvPr/>
          </p:nvSpPr>
          <p:spPr>
            <a:xfrm>
              <a:off x="0" y="0"/>
              <a:ext cx="518148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7"/>
            <p:cNvSpPr/>
            <p:nvPr/>
          </p:nvSpPr>
          <p:spPr>
            <a:xfrm>
              <a:off x="5105520" y="0"/>
              <a:ext cx="255600" cy="45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8"/>
            <p:cNvSpPr/>
            <p:nvPr/>
          </p:nvSpPr>
          <p:spPr>
            <a:xfrm>
              <a:off x="549360" y="0"/>
              <a:ext cx="43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4-1 (1&amp;3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5029200" cy="3048120"/>
          </a:xfrm>
          <a:prstGeom prst="rect">
            <a:avLst/>
          </a:prstGeom>
          <a:solidFill>
            <a:srgbClr val="e8dc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1) Income statement column &amp; (3) Balance sheet col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1) Income statement column &amp; (3) Income statement col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1) Balance sheet column &amp; (3) Balance sheet col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1) Balance sheet column &amp; (3) Income statement col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4140360"/>
          <a:ext cx="8305920" cy="203040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752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04,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44,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9,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0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19,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  <p:grpSp>
        <p:nvGrpSpPr>
          <p:cNvPr id="125" name="Group 23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26" name="Rectangle 24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25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6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4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27"/>
          <p:cNvSpPr/>
          <p:nvPr/>
        </p:nvSpPr>
        <p:spPr>
          <a:xfrm>
            <a:off x="8985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457200" y="762120"/>
            <a:ext cx="8305920" cy="301500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ck Gaddis owns and operates Gaddis Employment Services. On January 1, 2009, Retained Earnings had a balance of $186,000. During the year, an additional $40,000 of capital stock was issued for cash and dividends of $25,000 were paid. For the year ended December 31, 2009, Gaddis Employment Services reported a net income of $18,750. The ending balance in Retained Earnings at 12/31/2009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14400"/>
          </a:xfrm>
          <a:prstGeom prst="rect">
            <a:avLst/>
          </a:prstGeom>
          <a:solidFill>
            <a:srgbClr val="e8dc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TPChart" descr=""/>
          <p:cNvPicPr/>
          <p:nvPr/>
        </p:nvPicPr>
        <p:blipFill>
          <a:blip r:embed="rId1"/>
          <a:stretch/>
        </p:blipFill>
        <p:spPr>
          <a:xfrm>
            <a:off x="4876920" y="2057400"/>
            <a:ext cx="4267080" cy="48006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5"/>
          <p:cNvGrpSpPr/>
          <p:nvPr/>
        </p:nvGrpSpPr>
        <p:grpSpPr>
          <a:xfrm>
            <a:off x="0" y="0"/>
            <a:ext cx="4419360" cy="459720"/>
            <a:chOff x="0" y="0"/>
            <a:chExt cx="4419360" cy="459720"/>
          </a:xfrm>
        </p:grpSpPr>
        <p:sp>
          <p:nvSpPr>
            <p:cNvPr id="134" name="Rectangle 6"/>
            <p:cNvSpPr/>
            <p:nvPr/>
          </p:nvSpPr>
          <p:spPr>
            <a:xfrm>
              <a:off x="0" y="0"/>
              <a:ext cx="42789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7"/>
            <p:cNvSpPr/>
            <p:nvPr/>
          </p:nvSpPr>
          <p:spPr>
            <a:xfrm>
              <a:off x="4164480" y="3960"/>
              <a:ext cx="254880" cy="45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8"/>
            <p:cNvSpPr/>
            <p:nvPr/>
          </p:nvSpPr>
          <p:spPr>
            <a:xfrm>
              <a:off x="549720" y="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4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4114800" cy="2438280"/>
          </a:xfrm>
          <a:prstGeom prst="rect">
            <a:avLst/>
          </a:prstGeom>
          <a:solidFill>
            <a:srgbClr val="e8dc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204,7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244,7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179,7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219,7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685800"/>
            <a:ext cx="8305920" cy="228348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accounts appear in the adjusted trial balance of Hindsight Consulting. Indicate whether each account would be reported in the (a) current asset; (b) property, plant, and equipment; (c) current liability; (d) long-term liability; or (e) stockholders’ equity section of the December 31, 2009, balance sheet of Hindsight Consul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4191120"/>
          <a:ext cx="8331120" cy="2493720"/>
        </p:xfrm>
        <a:graphic>
          <a:graphicData uri="http://schemas.openxmlformats.org/drawingml/2006/table">
            <a:tbl>
              <a:tblPr/>
              <a:tblGrid>
                <a:gridCol w="6365880"/>
                <a:gridCol w="216000"/>
                <a:gridCol w="174924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) Current asset &amp; (6) Current li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) Stockholders’ equity &amp; (6) Current li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) Current asset &amp; (6) Long-term li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) Stockholders’ equity &amp; (6) Long-term li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  <p:grpSp>
        <p:nvGrpSpPr>
          <p:cNvPr id="141" name="Group 24"/>
          <p:cNvGrpSpPr/>
          <p:nvPr/>
        </p:nvGrpSpPr>
        <p:grpSpPr>
          <a:xfrm>
            <a:off x="0" y="0"/>
            <a:ext cx="5361120" cy="459720"/>
            <a:chOff x="0" y="0"/>
            <a:chExt cx="5361120" cy="459720"/>
          </a:xfrm>
        </p:grpSpPr>
        <p:sp>
          <p:nvSpPr>
            <p:cNvPr id="142" name="Rectangle 25"/>
            <p:cNvSpPr/>
            <p:nvPr/>
          </p:nvSpPr>
          <p:spPr>
            <a:xfrm>
              <a:off x="0" y="0"/>
              <a:ext cx="518148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6"/>
            <p:cNvSpPr/>
            <p:nvPr/>
          </p:nvSpPr>
          <p:spPr>
            <a:xfrm>
              <a:off x="5105520" y="0"/>
              <a:ext cx="255600" cy="45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27"/>
            <p:cNvSpPr/>
            <p:nvPr/>
          </p:nvSpPr>
          <p:spPr>
            <a:xfrm>
              <a:off x="549360" y="0"/>
              <a:ext cx="43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4-4 (1&amp;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 Box 28"/>
          <p:cNvSpPr/>
          <p:nvPr/>
        </p:nvSpPr>
        <p:spPr>
          <a:xfrm>
            <a:off x="8985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9"/>
          <p:cNvSpPr/>
          <p:nvPr/>
        </p:nvSpPr>
        <p:spPr>
          <a:xfrm>
            <a:off x="457200" y="3130560"/>
            <a:ext cx="8305920" cy="8254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3549600"/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 St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549600"/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earned Rent (3 month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14400"/>
          </a:xfrm>
          <a:prstGeom prst="rect">
            <a:avLst/>
          </a:prstGeom>
          <a:solidFill>
            <a:srgbClr val="e8dc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TPChart" descr=""/>
          <p:cNvPicPr/>
          <p:nvPr/>
        </p:nvPicPr>
        <p:blipFill>
          <a:blip r:embed="rId1"/>
          <a:stretch/>
        </p:blipFill>
        <p:spPr>
          <a:xfrm>
            <a:off x="4813200" y="2057400"/>
            <a:ext cx="4335480" cy="480060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5"/>
          <p:cNvGrpSpPr/>
          <p:nvPr/>
        </p:nvGrpSpPr>
        <p:grpSpPr>
          <a:xfrm>
            <a:off x="0" y="0"/>
            <a:ext cx="5361120" cy="459720"/>
            <a:chOff x="0" y="0"/>
            <a:chExt cx="5361120" cy="459720"/>
          </a:xfrm>
        </p:grpSpPr>
        <p:sp>
          <p:nvSpPr>
            <p:cNvPr id="150" name="Rectangle 6"/>
            <p:cNvSpPr/>
            <p:nvPr/>
          </p:nvSpPr>
          <p:spPr>
            <a:xfrm>
              <a:off x="0" y="0"/>
              <a:ext cx="518148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7"/>
            <p:cNvSpPr/>
            <p:nvPr/>
          </p:nvSpPr>
          <p:spPr>
            <a:xfrm>
              <a:off x="5105520" y="0"/>
              <a:ext cx="255600" cy="45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8"/>
            <p:cNvSpPr/>
            <p:nvPr/>
          </p:nvSpPr>
          <p:spPr>
            <a:xfrm>
              <a:off x="549360" y="0"/>
              <a:ext cx="43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4-4 (1&amp;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4343400" cy="3962520"/>
          </a:xfrm>
          <a:prstGeom prst="rect">
            <a:avLst/>
          </a:prstGeom>
          <a:solidFill>
            <a:srgbClr val="e8dc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) Current asset &amp; (6) Current 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) Stockholders’ equity &amp; (6) Current 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) Current asset &amp; (6) Long-term 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) Stockholders’ equity &amp; (6) Long-term 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0" y="37296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457200" y="755640"/>
            <a:ext cx="8305920" cy="2283480"/>
          </a:xfrm>
          <a:prstGeom prst="rect">
            <a:avLst/>
          </a:prstGeom>
          <a:solidFill>
            <a:srgbClr val="e8de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accounts appear in the adjusted trial balance of Hindsight Consulting. Indicate whether each account would be reported in the (a) current asset; (b) property, plant, and equipment; (c) current liability; (d) long-term liability; or (e) stockholders’ equity section of the December 31, 2009, balance sheet of Hindsight Consul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4176720"/>
          <a:ext cx="8305920" cy="2390760"/>
        </p:xfrm>
        <a:graphic>
          <a:graphicData uri="http://schemas.openxmlformats.org/drawingml/2006/table">
            <a:tbl>
              <a:tblPr/>
              <a:tblGrid>
                <a:gridCol w="8077320"/>
                <a:gridCol w="22860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3) Long-term liability &amp; (7) Current li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3) Current liability &amp; (7) Current li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3) Long-term liability &amp; (7) Property, plant, &amp; equip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3) Current liability &amp; (7) Property, plant, &amp; equip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dec6"/>
                    </a:solidFill>
                  </a:tcPr>
                </a:tc>
              </a:tr>
            </a:tbl>
          </a:graphicData>
        </a:graphic>
      </p:graphicFrame>
      <p:sp>
        <p:nvSpPr>
          <p:cNvPr id="157" name="Text Box 20"/>
          <p:cNvSpPr/>
          <p:nvPr/>
        </p:nvSpPr>
        <p:spPr>
          <a:xfrm>
            <a:off x="8985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1"/>
          <p:cNvSpPr/>
          <p:nvPr/>
        </p:nvSpPr>
        <p:spPr>
          <a:xfrm>
            <a:off x="457200" y="3206880"/>
            <a:ext cx="8305920" cy="825480"/>
          </a:xfrm>
          <a:prstGeom prst="rect">
            <a:avLst/>
          </a:prstGeom>
          <a:solidFill>
            <a:srgbClr val="e8d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3549600"/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s Payable (due 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mulated Depreci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549600"/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1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22"/>
          <p:cNvGrpSpPr/>
          <p:nvPr/>
        </p:nvGrpSpPr>
        <p:grpSpPr>
          <a:xfrm>
            <a:off x="0" y="0"/>
            <a:ext cx="5361120" cy="459720"/>
            <a:chOff x="0" y="0"/>
            <a:chExt cx="5361120" cy="459720"/>
          </a:xfrm>
        </p:grpSpPr>
        <p:sp>
          <p:nvSpPr>
            <p:cNvPr id="160" name="Rectangle 23"/>
            <p:cNvSpPr/>
            <p:nvPr/>
          </p:nvSpPr>
          <p:spPr>
            <a:xfrm>
              <a:off x="0" y="0"/>
              <a:ext cx="518148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5105520" y="0"/>
              <a:ext cx="255600" cy="45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25"/>
            <p:cNvSpPr/>
            <p:nvPr/>
          </p:nvSpPr>
          <p:spPr>
            <a:xfrm>
              <a:off x="549360" y="0"/>
              <a:ext cx="43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4-4 (3&amp;7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15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Electronic Arts Inc. follow the same accounting cycle annually to prepare its financial stat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838080"/>
          </a:xfrm>
          <a:prstGeom prst="rect">
            <a:avLst/>
          </a:prstGeom>
          <a:solidFill>
            <a:srgbClr val="e8dcc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TPChart" descr=""/>
          <p:cNvPicPr/>
          <p:nvPr/>
        </p:nvPicPr>
        <p:blipFill>
          <a:blip r:embed="rId1"/>
          <a:stretch/>
        </p:blipFill>
        <p:spPr>
          <a:xfrm>
            <a:off x="5105520" y="2209680"/>
            <a:ext cx="4043160" cy="464832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11"/>
          <p:cNvGrpSpPr/>
          <p:nvPr/>
        </p:nvGrpSpPr>
        <p:grpSpPr>
          <a:xfrm>
            <a:off x="0" y="0"/>
            <a:ext cx="5361120" cy="459720"/>
            <a:chOff x="0" y="0"/>
            <a:chExt cx="5361120" cy="459720"/>
          </a:xfrm>
        </p:grpSpPr>
        <p:sp>
          <p:nvSpPr>
            <p:cNvPr id="166" name="Rectangle 12"/>
            <p:cNvSpPr/>
            <p:nvPr/>
          </p:nvSpPr>
          <p:spPr>
            <a:xfrm>
              <a:off x="0" y="0"/>
              <a:ext cx="518148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3"/>
            <p:cNvSpPr/>
            <p:nvPr/>
          </p:nvSpPr>
          <p:spPr>
            <a:xfrm>
              <a:off x="5105520" y="0"/>
              <a:ext cx="255600" cy="452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4"/>
            <p:cNvSpPr/>
            <p:nvPr/>
          </p:nvSpPr>
          <p:spPr>
            <a:xfrm>
              <a:off x="549360" y="0"/>
              <a:ext cx="43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xample Exercise 4-4 (3&amp;7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4648320" cy="3962160"/>
          </a:xfrm>
          <a:prstGeom prst="rect">
            <a:avLst/>
          </a:prstGeom>
          <a:solidFill>
            <a:srgbClr val="e8dcc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) Long-term liability &amp; (7) Current 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) Current liability &amp;     (7) Current 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) Long-term liability &amp; (7) Property, plant, &amp;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) Current liability &amp;     (7) Property, plant, &amp;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1248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 financial statements that are published on the Web site for Electronic Arts Inc. prepared by public accounta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41776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 a complicated process for Electronic Arts Inc. to get its accounts ready for recording the operations of the next y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TPChart" descr=""/>
          <p:cNvPicPr/>
          <p:nvPr/>
        </p:nvPicPr>
        <p:blipFill>
          <a:blip r:embed="rId1"/>
          <a:stretch/>
        </p:blipFill>
        <p:spPr>
          <a:xfrm>
            <a:off x="4191120" y="1714680"/>
            <a:ext cx="4952880" cy="51433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29960"/>
            <a:ext cx="82296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orksheet is a formal financial stateme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9960"/>
            <a:ext cx="82296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manent accounts are also called real accoun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TPChart" descr=""/>
          <p:cNvPicPr/>
          <p:nvPr/>
        </p:nvPicPr>
        <p:blipFill>
          <a:blip r:embed="rId1"/>
          <a:stretch/>
        </p:blipFill>
        <p:spPr>
          <a:xfrm>
            <a:off x="4508640" y="165096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3000"/>
            <a:ext cx="822960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common classes of liabilities are current liabilities and short-term liabilit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TPChart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694400" cy="50292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ing entries transfer the balance of temporary accounts to the retained earnings accou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TPChart" descr=""/>
          <p:cNvPicPr/>
          <p:nvPr/>
        </p:nvPicPr>
        <p:blipFill>
          <a:blip r:embed="rId1"/>
          <a:stretch/>
        </p:blipFill>
        <p:spPr>
          <a:xfrm>
            <a:off x="4343400" y="1968480"/>
            <a:ext cx="4635360" cy="48895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65480"/>
            <a:ext cx="411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2T23:39:57Z</dcterms:created>
  <dc:creator> </dc:creator>
  <dc:description/>
  <dc:language>en-US</dc:language>
  <cp:lastModifiedBy>Leslie</cp:lastModifiedBy>
  <dcterms:modified xsi:type="dcterms:W3CDTF">2008-12-30T02:56:03Z</dcterms:modified>
  <cp:revision>66</cp:revision>
  <dc:subject/>
  <dc:title>Is the accounting process for Electronic Arts Inc. different from other companies?</dc:title>
</cp:coreProperties>
</file>